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D52-6C06-40FD-843A-4CC6AEF7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512-04F7-461B-B33C-A84C8505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8DD-ED82-4F39-A8DC-3A4616AB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74B-3394-4106-8383-BBA173D0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2BF-017B-4D7E-8E27-308A39CB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7E0-4FF4-45B9-9640-70E06385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E84-BF46-484D-B313-AD04788E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4C2-C0D6-4B9A-A96E-64B4B751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954-2668-4183-9469-F40BAEF2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B8C-9981-4554-B2BE-E22CC260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6AF-FAB1-4792-9E3B-63C923AA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54E-C63F-4C54-9638-7EA5742E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2335-9CE1-49E1-A861-B7A8D30932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Bivariat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Pearson’s Product-Moment Correlation Coefficie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As we saw in Ex 2E, correlation refers to the strength of the relationship between two variable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BUT, this is subjective (i.e. What you think of as strong, I might think is only moderate. What she thinks is weak, he thinks is strong)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"/>
              </a:rPr>
              <a:t>Pearson’s Product-Moment Correlation Coefficien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mbria"/>
              </a:rPr>
              <a:t>Pearson’s Coefficient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1" lang="en-AU" sz="30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, measures the correlation between 2 variables.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Depending on the strength of the scatterplot, r can range from –1 and 1.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In a strong positive correlation, r is close to 1.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In a strong negative correlation, r is close to </a:t>
            </a:r>
            <a:r>
              <a:rPr b="0" lang="en-AU" sz="3000" spc="-1" strike="noStrike" baseline="30000">
                <a:solidFill>
                  <a:srgbClr val="000000"/>
                </a:solidFill>
                <a:latin typeface="Cambria"/>
              </a:rPr>
              <a:t>–</a:t>
            </a: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1.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r = 0 means that the 2 variables have no relationship.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8" name="Content Placeholder 3" descr="Pearson's coefficient.jpg"/>
          <p:cNvPicPr/>
          <p:nvPr/>
        </p:nvPicPr>
        <p:blipFill>
          <a:blip r:embed="rId1"/>
          <a:stretch/>
        </p:blipFill>
        <p:spPr>
          <a:xfrm>
            <a:off x="457200" y="1627200"/>
            <a:ext cx="82296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"/>
              </a:rPr>
              <a:t>Guide to the strength of correlation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" name="Content Placeholder 3" descr="Range of Pearson's coefficient.jpg"/>
          <p:cNvPicPr/>
          <p:nvPr/>
        </p:nvPicPr>
        <p:blipFill>
          <a:blip r:embed="rId1"/>
          <a:stretch/>
        </p:blipFill>
        <p:spPr>
          <a:xfrm>
            <a:off x="2352600" y="1995480"/>
            <a:ext cx="4438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For you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2F, Q. 1 to 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6:14:31Z</dcterms:created>
  <dc:creator>08843474</dc:creator>
  <dc:description/>
  <dc:language>en-US</dc:language>
  <cp:lastModifiedBy>08843474</cp:lastModifiedBy>
  <dcterms:modified xsi:type="dcterms:W3CDTF">2011-02-12T06:48:17Z</dcterms:modified>
  <cp:revision>4</cp:revision>
  <dc:subject/>
  <dc:title>Bivariate Data</dc:title>
</cp:coreProperties>
</file>